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8D6-7C84-4E87-BE4B-BF5CE70E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65C-615C-42CC-879B-9FAAAB7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3C0-DA34-4299-9FA6-516451C9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55B-93A0-496B-9708-046C5ED4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D297-C3AD-4CA9-BEE3-821A43C7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4DE-1911-44D1-B83E-E63B0476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1CC-C7F9-44A6-8C0D-AF6E287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433-F5FB-4F66-B4FE-83E1F300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D7B-51BB-4C4E-8753-2CD05B7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6F93-40BB-43B3-9609-7B98A6CF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7782-7958-4A43-9AD6-D9B67A4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5B9-74C1-4863-B054-5724F586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C566-1648-4477-BDAC-F8D7BA50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0D9-FD2B-4880-92C8-5F78232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3CC6-CFF7-4316-9055-95D2A7E9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537B-A6BA-4D1B-B67C-5D8E4760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32F3-8BC4-4455-8EE0-1A58B664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108-C916-4BC1-BB6E-0D5094A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378-B883-45F0-924F-DB99E71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0B0-37BF-4065-AD8A-CB43815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CAE-C5B0-4611-A669-17DC5F15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C92-8706-4D18-9A96-492F0EF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BED-1D3E-4833-8AF5-316E29B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B80-05D8-478B-8A49-89ACC21E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F3A-B3F9-4329-92EE-7B60B8AB427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120-E05D-439B-BA0E-674EC3A2C461}" type="slidenum">
              <a:rPr b="0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543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  <a:ea typeface="华文隶书"/>
              </a:rPr>
              <a:t>（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华文隶书"/>
              </a:rPr>
              <a:t>4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  <a:ea typeface="华文隶书"/>
              </a:rPr>
              <a:t>）微信图书馆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3520" y="1125000"/>
            <a:ext cx="76201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信图书馆主要功能包括：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信息推送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查询读者证信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查询图书信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查询借阅信息；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续借图书；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图书推荐，读者荐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投票统计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提醒类信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发布通知与通告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_副本"/>
          <p:cNvPicPr/>
          <p:nvPr/>
        </p:nvPicPr>
        <p:blipFill>
          <a:blip r:embed="rId1"/>
          <a:stretch/>
        </p:blipFill>
        <p:spPr>
          <a:xfrm>
            <a:off x="1332000" y="404640"/>
            <a:ext cx="7619760" cy="58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3_副本"/>
          <p:cNvPicPr/>
          <p:nvPr/>
        </p:nvPicPr>
        <p:blipFill>
          <a:blip r:embed="rId1"/>
          <a:stretch/>
        </p:blipFill>
        <p:spPr>
          <a:xfrm>
            <a:off x="1308240" y="333360"/>
            <a:ext cx="78357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_副本"/>
          <p:cNvPicPr/>
          <p:nvPr/>
        </p:nvPicPr>
        <p:blipFill>
          <a:blip r:embed="rId1"/>
          <a:stretch/>
        </p:blipFill>
        <p:spPr>
          <a:xfrm>
            <a:off x="895320" y="981000"/>
            <a:ext cx="82486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5_副本"/>
          <p:cNvPicPr/>
          <p:nvPr/>
        </p:nvPicPr>
        <p:blipFill>
          <a:blip r:embed="rId1"/>
          <a:stretch/>
        </p:blipFill>
        <p:spPr>
          <a:xfrm>
            <a:off x="684360" y="1125360"/>
            <a:ext cx="82486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9-09T12:07:11Z</dcterms:created>
  <dc:creator/>
  <dc:description/>
  <dc:language>en-US</dc:language>
  <cp:lastModifiedBy>lib06</cp:lastModifiedBy>
  <dcterms:modified xsi:type="dcterms:W3CDTF">2019-04-01T08:20:39Z</dcterms:modified>
  <cp:revision>4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